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7.gif" ContentType="image/gif"/>
  <Override PartName="/ppt/media/image5.jpeg" ContentType="image/jpeg"/>
  <Override PartName="/ppt/media/image17.png" ContentType="image/png"/>
  <Override PartName="/ppt/media/image10.wmf" ContentType="image/x-wmf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8.gif" ContentType="image/gif"/>
  <Override PartName="/ppt/media/image19.wmf" ContentType="image/x-wmf"/>
  <Override PartName="/ppt/media/image18.jpeg" ContentType="image/jpeg"/>
  <Override PartName="/ppt/media/image9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50B4-78D9-4F05-8436-73096984C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2069-C3DF-4B99-A56F-E3E6E2F3B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856D-0A6F-4392-BD24-1C2FED8E5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57F0-2A2A-4113-9AC9-1924DCE6C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F83B-B446-4248-A85A-A33E0783B8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E6926-7193-431A-AAC7-4351E731D3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4DD9-B30E-4DA0-BE87-89C2C7B634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E9667-C7F9-4C29-B101-1F20B2ECF6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AD3C7-30A7-4995-A27B-876BFDE61F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89967-A4A7-4481-A801-95DCB57971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7DA7E-848F-4E6C-A74E-0CD6905EC5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1544-8428-42EE-967B-DB3ABA462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8F108-B783-4EF8-8F27-F43B5610AB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F6BF0-FC61-4A86-AFAC-B56FE45522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65314-F492-4810-B4DA-E55ED1AB38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65020-7BCE-442A-B383-BF4A2A61DA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C0D27-00D2-47DB-8D15-65E6AD6B51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36C-9AA1-44D5-A4FF-6E55CE1B9D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8C7-5857-4D6E-BBB7-801E8E5E06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C4CC-8351-4E6E-8D04-F8F7241463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5FC-5264-4D8E-AC4F-B48E71F9C8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0AA-3192-41E7-838B-D533510D64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6B21-28A3-4264-8D0E-8269C4B39D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C31-97D2-4513-A6AE-8B9CC7E1B1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1CB-FFAE-4E98-B757-0B52994912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137B-C332-4388-BB10-F78C3F45E4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99D6-A520-40DB-B3A0-72C5FFED6B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581-2F8A-4496-B5EC-E72BB4D251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25DD-CD84-4561-8711-370A9C8DEE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52D4-E57C-4466-9C17-F67EAC0CF1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08911-CF45-47AE-9087-9A623763E3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45230-2B15-4C7A-9681-52B38ACEFA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352EF-6142-4512-A472-8D35E8170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73EE-B7BD-43CC-A0EC-14DB5CE8D5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471D7-138C-4DF1-A369-7B96A14B50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B3770-6687-4CEB-A589-F9E290ED16D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70407-A237-43B5-ABFB-F629199F01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C7EF7-393A-4757-9081-737DAF30A7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17BDD-30E6-4C08-9D81-944151D176B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5362F-6C0D-4CB2-A82F-368E557E98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742D5-2052-4FCF-9A82-D4A2E01D500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C590D-D317-4D6A-A2E1-6CEA264356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34157-AA3C-4C42-A4C9-D8EDFADB8EC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03D77-7A5E-4D02-AB08-14128CA45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A7CE-568A-42F3-91DE-6B80A881E73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02748-B382-4BD3-AAA3-6094FB84FBE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13D8C-6F54-4206-A684-6AA9061D51E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9DCD2-0AF1-43B7-958B-4C0FB6E5D3A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893AB-0B3A-43A7-93D7-C5443ABBEBE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7601E-8083-4919-9675-C1757E8F49A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3B9A2-396A-4A9D-B0A0-8DF30382B78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1F8F7-946C-44AF-AB32-0AA9E018C4A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91FA9-2D99-4C3F-8EEF-6728E6E14C6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A4D59-8D04-4302-8AFB-32DBB4FFA19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75E07-B1A8-42E3-A1FF-B42BF8900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0416-E91C-44EE-83FA-D90311016C5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286A5-101F-4ED7-944E-BFC3E8559ED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3B1E-F4D2-474B-945B-734B891F7FA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F5DD-2DC9-4533-B6DE-504B6F03930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EE3C-46B4-460E-82B4-ECCE5025D7F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9B06-6D06-4A93-95E5-EAE7D779A08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6CB2-8973-45B8-BBE3-56D6A7787B3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9E99-8B9E-415A-B2E6-696504D9C88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F35E-9009-486E-BFD1-7E6598B5B7B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4688-C746-4B39-945D-0072EB1CC9A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30B8-0305-456F-9513-3EF1DD319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8E71-4A67-4106-8386-694D728B912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3AB7-125A-4226-9516-6C6869A46B8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46F1-197C-49F1-A8A4-3BC41352A27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C3C5-27AD-4107-B09D-C7DBE851D53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5E745D-2AF4-4199-929F-B4B1799E742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5C749F-DAC6-48FA-9EF0-44349A3B7EB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8FD700-6B63-4C92-BD7E-F4E3223DC8E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BE72D2-08FA-45B2-AD72-7D07CE4AB5A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72BCC4-231D-4FF1-87E6-EB3E717473E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4F7EAE-7E74-418F-841C-089FDC4AC38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571FEB-5E06-4406-9354-9DCFF4922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CDA7-21DF-49BF-88A4-6B8048793CD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9828E5-8857-4712-8D42-E4426FDEA57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F7F169-3EDD-4E3A-84D6-D2A2F0C4293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EC0ED9-647A-42F2-B27A-83D5E9783C7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C0E245-11D0-40F0-8638-21E061BCC32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8856D1-2FAA-4462-99E4-18BA5E63C55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8516-2322-4AE0-88F0-BE95832A0F9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5E5A4E-8B48-433E-B5F9-5DBC9C2D94D2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9097920" y="22212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1146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2"/>
          </p:nvPr>
        </p:nvSpPr>
        <p:spPr>
          <a:xfrm>
            <a:off x="1325520" y="4929120"/>
            <a:ext cx="571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58A53B-CD68-4609-9648-36EEBE726E45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72A422-1E34-4432-9D03-01BB7CBA8085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9096480" y="21744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1146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4"/>
          </p:nvPr>
        </p:nvSpPr>
        <p:spPr>
          <a:xfrm>
            <a:off x="1339560" y="4929120"/>
            <a:ext cx="5713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8A7EB3-841C-4CBC-9681-B64DDE3F4AD0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ECFF87-72A4-4033-BAE1-E2FF9EAC7151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03D633-6669-4945-B8CC-12F1EE386FEC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7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82A1F6-1532-471E-97F5-ACC9430B290D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539640" y="642960"/>
            <a:ext cx="7920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ОЕКТ НА ТЕМУ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«НЕГАТИВНОЕ ВЛИЯНИЕ ШУМА Н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ДОРОВЬЕ ЧЕЛОВЕ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4859280" y="3240000"/>
            <a:ext cx="3600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ыполнили 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Иноземцева Т.Н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Фролова Н.А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-360360" y="8810640"/>
            <a:ext cx="2801880" cy="1449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574560" y="2824200"/>
            <a:ext cx="4286520" cy="3295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5759280" y="711360"/>
            <a:ext cx="2802240" cy="14493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"/>
          <p:cNvSpPr/>
          <p:nvPr/>
        </p:nvSpPr>
        <p:spPr>
          <a:xfrm>
            <a:off x="452520" y="314280"/>
            <a:ext cx="746748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Рекомендации </a:t>
            </a:r>
            <a:br>
              <a:rPr sz="2600"/>
            </a:b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по ослаблению негативного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влияния шума на организм челове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457200" y="1979640"/>
            <a:ext cx="746748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Ограничить ежедневное прослушивание громкой музыки, телевизионных передач, работу за компьютером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 выполнении шумной работы, через каждый час делать 10 минутный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	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перерыв или прослушивать успокаивающую музык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Следить за разговорной речью: не кричать, не повышать голос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егулярное медицинское обследовани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садка деревьев вокруг здани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дпочтение отдавать отдыху на природе, а не дискотек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менение средств  защиты от шум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наушники из шумоизолирующих материал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тивошумные вкладыш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2300dc"/>
              </a:buClr>
              <a:buFont typeface="Wingdings" charset="2"/>
              <a:buChar char="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Информационная работа по профилактике влияния шума на здоровье обучающихся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720720" y="720720"/>
            <a:ext cx="73803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ЫВО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В результате ограничения прослушивания громкой музыки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боты        за компьютером улучшился сон у 30% учащихс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2.  Повысилось внимание и активизировалась учебная деятельность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3. Снизилась доля конфликтов между учащимися на 20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4. В течение зимних каникул 60% учащихся предпочли ежедневное    катание на коньках и лыжах ежедневному сидению у компьютера и    телевизора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5. Провели беседу о негативном влиянии шума на учеников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пагандировали здоровый образ жизни в 4 начальных класс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7. После медицинского обследования 10%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евятиклассников получили рекоменд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 лечению и восстановлению слух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232000" cy="15112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57200" y="272880"/>
            <a:ext cx="74660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ЧЕЛОВЕК 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457200" y="1600200"/>
            <a:ext cx="746604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, столь мало уважаемое в юных летах, делается в летах зрелости истинным благом; самое чувство жизни бывает гораздо милее тогда, когда уже пролетела ее быстрая половина.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М.Карамз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 никогда не может потерять своей цены в глазах человека, потому что и в довольстве и в роскоши плохо жить без здоровья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Г.Черныше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Берегите уши!  Будьте здоровы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Удачи</a:t>
            </a:r>
            <a:r>
              <a:rPr b="0" lang="ru-RU" sz="2400" spc="-1" strike="noStrike">
                <a:solidFill>
                  <a:srgbClr val="3333cc"/>
                </a:solidFill>
                <a:latin typeface="Century Schoolbook"/>
                <a:ea typeface="Arial Unicode MS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539640" y="4859280"/>
            <a:ext cx="1619280" cy="1440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"/>
          <p:cNvPicPr/>
          <p:nvPr/>
        </p:nvPicPr>
        <p:blipFill>
          <a:blip r:embed="rId2"/>
          <a:stretch/>
        </p:blipFill>
        <p:spPr>
          <a:xfrm>
            <a:off x="6659640" y="539640"/>
            <a:ext cx="1800000" cy="1440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57200" y="720720"/>
            <a:ext cx="746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Используемая литератур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457200" y="1413000"/>
            <a:ext cx="746748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пользование коммуникативных средств при выполнении проектов как фактор формирования социальной компетентности педагога и учащихся. -Саратов: ИЦ «РАТА», 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ОБЖ, 9 класс, поурочное планирование.-Волгоград: Учитель,2007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Материалы Интернет с сайт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mhtv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file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//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еливерстова Д.Н., Селиверстова В.В., Селиверстов В.Н.Формула здоровья.- Волгоград: Зацарицынский вестник, 199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льичев А.А. Популярная энциклопедия для выживания подростков.-М:ЭКСМО-Пресс,20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олесов Д.В. Учебник «Биология», 8 класс,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6673680" y="4881600"/>
            <a:ext cx="1785960" cy="1417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671400" y="635040"/>
            <a:ext cx="77900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539640" y="4316400"/>
            <a:ext cx="3421080" cy="19843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539640" y="2160720"/>
            <a:ext cx="3419640" cy="19796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4"/>
          <p:cNvSpPr/>
          <p:nvPr/>
        </p:nvSpPr>
        <p:spPr>
          <a:xfrm>
            <a:off x="720720" y="720720"/>
            <a:ext cx="755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Обоснование выбора темы про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824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основание выбора темы проекта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4319640" y="2340000"/>
            <a:ext cx="414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гативное влияние шума сказывается на органах слуха, сердечно-сосудистой системе, на работе печени, к истощению и перенапряжению нервных клеток, к изменениям в стволовых клетках. Ослабленные клетки нервной системы не могут достаточно четко координировать работу различных систем организма. Различные виды шумов приводят к развитию шумовой болезни.  Проведенные научные исследования показали, что у людей, находящихся в шумной обстановке,  в результате систематического воздействия шума, производительность труда падает на 10% и увеличивается заболеваемость на 30%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3"/>
          <a:stretch/>
        </p:blipFill>
        <p:spPr>
          <a:xfrm>
            <a:off x="7020000" y="1260360"/>
            <a:ext cx="1218960" cy="1171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457200" y="274680"/>
            <a:ext cx="641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ЦЕЛЬ ПРОЕКТА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азработа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екомендации по защите от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негативного воздействия шума   на организм человека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6200" cy="2357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"/>
          <p:cNvPicPr/>
          <p:nvPr/>
        </p:nvPicPr>
        <p:blipFill>
          <a:blip r:embed="rId2"/>
          <a:stretch/>
        </p:blipFill>
        <p:spPr>
          <a:xfrm>
            <a:off x="1779480" y="4319640"/>
            <a:ext cx="2000520" cy="1928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АДАЧ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395280" y="1628640"/>
            <a:ext cx="8115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Выяснить, что такое шу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Выявить источники шума в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окружающей сре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Выявить опасный предел шума д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осприятия чело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Рекомендовать способы защиты о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шу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6300720" y="1440000"/>
            <a:ext cx="1643040" cy="1714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619280" y="189000"/>
            <a:ext cx="70358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РИТЕРИ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35080" y="1481040"/>
            <a:ext cx="900108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     Красоч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     Доступ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изложения материал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     Информатив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     Достовер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480960" y="5040360"/>
            <a:ext cx="1859040" cy="1463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5425920" y="4500720"/>
            <a:ext cx="3033720" cy="1800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3"/>
          <a:stretch/>
        </p:blipFill>
        <p:spPr>
          <a:xfrm>
            <a:off x="5265720" y="1265400"/>
            <a:ext cx="3193920" cy="1795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428760" y="735120"/>
            <a:ext cx="792000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то такое шум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беспорядочное сочетание различ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по</a:t>
            </a: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силе и частоте зву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громкие звуки, слившиеся 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естройное    звуча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-явление всепроникающее и негатив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воздействующее на организм человека 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совокупности с другими фактор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(вредными       примесями в воздухе и вод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электромагнитным   излучением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апряженностью труда и т.д.).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6450120" y="720720"/>
            <a:ext cx="2009520" cy="1079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5219640" y="4140360"/>
            <a:ext cx="3060720" cy="2160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2"/>
          <p:cNvSpPr/>
          <p:nvPr/>
        </p:nvSpPr>
        <p:spPr>
          <a:xfrm>
            <a:off x="539640" y="549360"/>
            <a:ext cx="76662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точники шу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Работа бытовых приборов: телевизор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агнитофон, стиральная машина, ради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ранспорт железнодорожны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авиационный,    автомобильны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Строительные работ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Природные явления: гром, цунам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землетрясение, обвал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узы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лест листв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пот, разговор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ечение воды из кран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Крики, визг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30320" y="1440000"/>
            <a:ext cx="40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900000" y="539640"/>
            <a:ext cx="7559640" cy="63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Физические характеристики шу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Уровень шума измеряется в единицах звукового давления — децибелах (дБ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Болевой порог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                                                        1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кетный двигатель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4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ая музыка                                                               12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робильная машина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1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сс, метро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Уровень шума, вредный для слуха                              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9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Товарный поезд(на расстоянии 33 м)                            8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ылесос (на  расстоянии 3м)                                            7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Автомобильное движение на автостраде                       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зговор                               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Шелест листвы                                                                  1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ий разговор в классе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Хлопанье в ладоши на представлении                           88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«Ура»- хором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Девчачий визг                                                                  127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357120" y="539640"/>
            <a:ext cx="7740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оздействие шума проявляе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260360" y="1357200"/>
            <a:ext cx="29955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луховой аппарат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нервную систему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ердечно-сосудистую систем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репродуктивную функцию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3357720" y="2500200"/>
            <a:ext cx="54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Человек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2571840" y="3143160"/>
            <a:ext cx="5759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тановит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Раздражительным, нервным, слабым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забывчив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Тревожным, испуганным, плохо види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ухудшается  интеллектуальная деятельност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ыстро утомляем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иобрета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Гипертоническую болезн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ессонниц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еправильный обмен вещест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Снижается порог чувствительности нервных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клеток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539640" y="3351240"/>
            <a:ext cx="1981440" cy="20494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20:41:28Z</dcterms:created>
  <dc:creator>Ванек</dc:creator>
  <dc:description/>
  <dc:language>en-US</dc:language>
  <cp:lastModifiedBy>КарМаН</cp:lastModifiedBy>
  <dcterms:modified xsi:type="dcterms:W3CDTF">2011-08-23T12:14:27Z</dcterms:modified>
  <cp:revision>12</cp:revision>
  <dc:subject/>
  <dc:title>Проект на тему: «Негативное влияние шума на  здоровье человека»</dc:title>
</cp:coreProperties>
</file>